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E027-4524-45E3-B00B-CD848B0039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lions provide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villus has many microvilli to further increas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h blood supply for absorbed nutrients to pass into and be taken around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nch of lymphatic system takes absorbed fatty acids and glycerol away to be used or sto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i wall one cell thick for rapid passing through of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lions provide larg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villus has many microvilli to further increas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h blood supply for absorbed nutrients to pass into and be taken arou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nch of lymphatic system takes absorbed fatty acids and glycerol away to be used or st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i wall one cell thick for rapid passing through of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b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ig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down large, insoluble molecules into smaller, soluble molecules that can b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breaks down the large molecu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enzymes made by specialised cells inside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iges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down large, insoluble molecules into smaller, soluble molecules that can b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breaks down the large molecu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enzymes made by specialised cells inside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 animation (First 5 mins 15 se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 carefully and make notes in your book. You will be quizzed after the animation so liste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 animation (First 5 mins 15 se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 carefully and make notes in your book. You will be quizzed after the animation so list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 simple sug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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 fatty acids + glyc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 simpl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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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lls bacteria in food – protects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atures proteins – makes digestion eas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es stomach enzymes – these only work in acidic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psin is inactive when first made and is only activated by HCL to start digesting protei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lls bacteria in food – protects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atures proteins – makes digestion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es stomach enzymes – these only work in acidic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psin is inactive when first made and is only activated by HCL to start digesting protein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is produced in the liver and stored in the gall blad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neutralises acid from the stom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also emulsifies fat droplets to increase their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is produced in the liver and stored in the gall blad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neutralises acid from the stoma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also emulsifies fat droplets to increase 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CF42-6E74-487A-BE02-8DAF73A7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9156-1203-44A3-A483-A562E659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106E-ED27-4B04-917E-E53FBB3C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D498-7FCB-4417-A3B9-04DE1894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32D5-30F1-405D-810E-848DB67D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8EFB-A1BC-4615-9F49-05499C4D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D8AF-2475-498D-840F-A616DE95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0210-7818-4F80-B3FF-A441B4D1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3B85-5756-4164-AC4C-6ED1842F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B92D-6A3F-4984-95F5-870854B7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487D-5F15-4C08-B6B5-379FDF11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7EEB-34BC-46CA-8779-5827E61E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364A-430E-4E4A-BDD7-544144A148B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ews.bbc.co.uk/1/hi/health/1372832.s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k.youtube.com/watch?v=AFbPHlhI13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1320" y="2714400"/>
            <a:ext cx="778644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www.wikieducator.org/images/4/4d/Villus_labeled_and_coloured.JPG"/>
          <p:cNvPicPr/>
          <p:nvPr/>
        </p:nvPicPr>
        <p:blipFill>
          <a:blip r:embed="rId1"/>
          <a:stretch/>
        </p:blipFill>
        <p:spPr>
          <a:xfrm>
            <a:off x="785880" y="285840"/>
            <a:ext cx="78404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Millions provide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large surface a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ach villus has many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microvilli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to further increase surface a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Rich blood supply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or absorbed nutrients to pass into and be taken around bod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Branch of lymphatic system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akes absorbed fatty acids and glycerol away to be used or stor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Villi wall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one cell thick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or rapid passing through of nutri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1600200"/>
            <a:ext cx="361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www.llu.edu/llumc/transplant/images/liver-abdomen.jpg"/>
          <p:cNvPicPr/>
          <p:nvPr/>
        </p:nvPicPr>
        <p:blipFill>
          <a:blip r:embed="rId1"/>
          <a:stretch/>
        </p:blipFill>
        <p:spPr>
          <a:xfrm>
            <a:off x="4143240" y="1357200"/>
            <a:ext cx="50007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tomach b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What is diges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reaking down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large, insoluble molecul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o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maller, soluble molecul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at can be absorbed through the wall of the small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What breaks down the large molec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Digestive enzym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de by specialised cells inside g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5480" y="1600200"/>
            <a:ext cx="86439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4"/>
          <p:cNvCxnSpPr/>
          <p:nvPr/>
        </p:nvCxnSpPr>
        <p:spPr>
          <a:xfrm>
            <a:off x="3429000" y="1928880"/>
            <a:ext cx="2358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6"/>
          <p:cNvCxnSpPr/>
          <p:nvPr/>
        </p:nvCxnSpPr>
        <p:spPr>
          <a:xfrm>
            <a:off x="3071880" y="3714840"/>
            <a:ext cx="2358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Straight Arrow Connector 7"/>
          <p:cNvCxnSpPr/>
          <p:nvPr/>
        </p:nvCxnSpPr>
        <p:spPr>
          <a:xfrm>
            <a:off x="2857680" y="5428800"/>
            <a:ext cx="20718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igestion animatio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First 5 mins 15 se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isten carefully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make notes in your book. You will be quizzed after the animation so liste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simple sug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amino aci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at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fatty acids + glycer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000680" y="2071800"/>
            <a:ext cx="421452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000240" y="2571840"/>
            <a:ext cx="4429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286000" y="3000240"/>
            <a:ext cx="2428920" cy="357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857760" y="4286160"/>
            <a:ext cx="2071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786040" y="4714920"/>
            <a:ext cx="207180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2214720" y="5214960"/>
            <a:ext cx="3214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6715080" y="5643720"/>
            <a:ext cx="207180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Kills bacteria in food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protects 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Denatures protein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makes digestion easi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Activates stomach enzyme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these only work in acidic condi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Pepsin is inactive when first made and is only activated by HCL to start digesting protein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le is produced in the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iv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stored in the g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ll blad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neutralises acid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om the stoma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le also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emulsifi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fat droplets to increase their surface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http://biology.touchspin.com/images/villi.jpg"/>
          <p:cNvPicPr/>
          <p:nvPr/>
        </p:nvPicPr>
        <p:blipFill>
          <a:blip r:embed="rId1"/>
          <a:stretch/>
        </p:blipFill>
        <p:spPr>
          <a:xfrm>
            <a:off x="1071720" y="1714680"/>
            <a:ext cx="72864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ww.bbc.co.uk/schools/ks3bitesize/science/images/villi.gif"/>
          <p:cNvPicPr/>
          <p:nvPr/>
        </p:nvPicPr>
        <p:blipFill>
          <a:blip r:embed="rId1"/>
          <a:stretch/>
        </p:blipFill>
        <p:spPr>
          <a:xfrm>
            <a:off x="1071720" y="214200"/>
            <a:ext cx="771516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5:21:45Z</dcterms:created>
  <dc:creator>ICT Technical Services</dc:creator>
  <dc:description/>
  <dc:language>en-US</dc:language>
  <cp:lastModifiedBy>RomaK</cp:lastModifiedBy>
  <dcterms:modified xsi:type="dcterms:W3CDTF">2015-09-04T10:47:04Z</dcterms:modified>
  <cp:revision>14</cp:revision>
  <dc:subject/>
  <dc:title>Topic: B2b Lesson: 2 Title: Enzymes and digestion</dc:title>
</cp:coreProperties>
</file>